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XMLHttpRequest" TargetMode="External"/><Relationship Id="rId2" Type="http://schemas.openxmlformats.org/officeDocument/2006/relationships/hyperlink" Target="http://en.wikipedia.org/wiki/XMLHttpRequest" TargetMode="External"/><Relationship Id="rId3" Type="http://schemas.openxmlformats.org/officeDocument/2006/relationships/hyperlink" Target="http://en.wikipedia.org/wiki/XMLHttpRequest" TargetMode="External"/><Relationship Id="rId4" Type="http://schemas.openxmlformats.org/officeDocument/2006/relationships/hyperlink" Target="http://en.wikipedia.org/wiki/XMLHttpRequest" TargetMode="External"/><Relationship Id="rId5" Type="http://schemas.openxmlformats.org/officeDocument/2006/relationships/hyperlink" Target="http://en.wikipedia.org/wiki/XMLHttpRequest" TargetMode="External"/><Relationship Id="rId6" Type="http://schemas.openxmlformats.org/officeDocument/2006/relationships/hyperlink" Target="http://en.wikipedia.org/wiki/XMLHttpRequest" TargetMode="External"/><Relationship Id="rId7" Type="http://schemas.openxmlformats.org/officeDocument/2006/relationships/hyperlink" Target="http://en.wikipedia.org/wiki/XMLHttpRequest" TargetMode="External"/><Relationship Id="rId8" Type="http://schemas.openxmlformats.org/officeDocument/2006/relationships/hyperlink" Target="http://en.wikipedia.org/wiki/XMLHttpRequest" TargetMode="External"/><Relationship Id="rId9" Type="http://schemas.openxmlformats.org/officeDocument/2006/relationships/hyperlink" Target="http://en.wikipedia.org/wiki/XMLHttpRequest" TargetMode="External"/><Relationship Id="rId10" Type="http://schemas.openxmlformats.org/officeDocument/2006/relationships/hyperlink" Target="http://en.wikipedia.org/wiki/XMLHttpRequest" TargetMode="External"/><Relationship Id="rId11" Type="http://schemas.openxmlformats.org/officeDocument/2006/relationships/hyperlink" Target="http://www.w3.org/TR/XMLHttpRequest/" TargetMode="External"/><Relationship Id="rId12" Type="http://schemas.openxmlformats.org/officeDocument/2006/relationships/hyperlink" Target="http://www.w3.org/TR/XMLHttpRequest/" TargetMode="External"/><Relationship Id="rId13" Type="http://schemas.openxmlformats.org/officeDocument/2006/relationships/hyperlink" Target="http://www.w3.org/TR/XMLHttpRequest/" TargetMode="External"/><Relationship Id="rId14" Type="http://schemas.openxmlformats.org/officeDocument/2006/relationships/hyperlink" Target="http://www.w3.org/TR/XMLHttpRequest/" TargetMode="External"/><Relationship Id="rId15" Type="http://schemas.openxmlformats.org/officeDocument/2006/relationships/hyperlink" Target="http://www.w3.org/TR/XMLHttpRequest/" TargetMode="External"/><Relationship Id="rId16" Type="http://schemas.openxmlformats.org/officeDocument/2006/relationships/hyperlink" Target="http://www.w3.org/TR/XMLHttpRequest/" TargetMode="External"/><Relationship Id="rId17" Type="http://schemas.openxmlformats.org/officeDocument/2006/relationships/hyperlink" Target="http://www.w3.org/TR/XMLHttpRequest/" TargetMode="External"/><Relationship Id="rId1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HttpRequest objektu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rabil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bile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HttpRequest objektua lortu (lehen ikusi dugun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onreadystatechange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propietateari erantzuna kudeatuko duen funtzioa eslei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metodoaren bidez eskaeraren datuak hasiera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nd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metodoaren bidez eskaera abiara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bort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idez abortatu (auker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rantzuna kudeatuko duen funtzioa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readyState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= 4 dela ziurtatu (erantzuna jasota dagoela aleg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responseText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edo </a:t>
            </a:r>
            <a:r>
              <a:rPr b="0" i="1" lang="eu-ES" sz="1800" spc="-1" strike="noStrike">
                <a:solidFill>
                  <a:srgbClr val="000000"/>
                </a:solidFill>
                <a:latin typeface="Verdana"/>
              </a:rPr>
              <a:t>responseXML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 propietatean erantzuna jaso, erantzun motaren arabe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rantzunarekin orrian dagozkion aldaketak e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dibide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&lt;input id=“izena” type=“text” onchange=“eskaeraegin()”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&lt;div id=“datuak”&gt;&lt;/div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function eskaeraegin(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document.body.style.cursor='wait'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xmlHttp=GetXmlHttpObject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xmlHttp.onreadystatechange=datuakbistaratu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url='/datuak.py?izena='+document.getElementById('izena').value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xmlHttp.open("GET",url,true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xmlHttp.send(null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function datuakbistaratu(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if (xmlHttp.readyState==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document.getElementById('datuak').innerHTML=xmlHttp.responseTex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document.body.style.cursor='default'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Estek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n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XMLHttpReq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 zirriborr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.w3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/TR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XMLHttpRequest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HttpRequest objektu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Propietateak eta metodo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Erabile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Adibid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Estek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: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Asynchronous Javascript and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ain arte ikusitakoari (XHTML, CSS, DOM, JavaScript) DHTML esaten zaio (Dynamic HTM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-en benetako bereizgarria edo berritasuna dei asinkronoak egitean datz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ei asinkrono horiek XMLHttpRequest objektuaren bidez egiten d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905120"/>
            <a:ext cx="22860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HttpRequest objektua API bat da, bezeroko scriptgintza lengoaiek erabil dezaketena web zerbitzariarekin HTTP bidez XML datuak transferitze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ahiz XMLHttpRequest deitzen den, objektu hori XML ez den beste formatu batzuetarako ere erabil daiteke, testu soila esate batera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rakatzaile moderno gehienek beren baitan objektu hau daka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ina Internet Explorer-ek ez dauka berariazko objekturik, ActiveX kontrol bat erabiltzen du XMLHttpRequest objektua inplementatze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unction GetXmlHttpObject(handl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var objXMLHttp=null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if (window.XMLHttpReques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objXMLHttp=new XMLHttpReques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if (window.ActiveXOb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objXMLHttp=new ActiveXObject("Microsoft.XMLHTTP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return objXMLHtt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Propietateak eta metodo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readystatechange: objektuaren egoera aldatzen denean aktibatzen den gertaera-maneiatzail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adyState: objektuaren egoera itzultzen 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0: hasieratu gab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1: hasieratu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2: eskaera bidali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3: erantzuna jasotz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4: erantzuna jaso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sponseText: erantzun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mod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sponseXML: erantzuna DOM zuhaitz b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tatus: HTTP erantzun kodea (404, 200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tatusText: HTTP erantzunaren testua (‘Not found’, ‘OK’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Propietateak eta metodo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et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pen(): eskaera batek behar dituen datuak hasieratzen di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eitzeko modua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open(method,UR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open(method,URL,asyn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open(method,URL,async,userNam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open(method,URL,async,userName,passwor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rametroak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method: ‘GET’, ‘POST’, ‘HEAD’, ‘PUT’, ‘DELETE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URL: eskaeraren UR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async: eskaera asinkronoa izango den edo ez; asinkronoa bada, deiaren ostean gauzak exekutatzen jarraituko du; bestela, erantzunaren zain geldituko d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userName: erabiltzaile ize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assword: pasahitz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Propietateak eta metodo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etodo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end(content): eskaera bidaltzen du; content parametroan ‘POST’ eskaeretako edukia apsatzen za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bort(): uneko eskaera bertan behera utz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etRequestHeader(label,value): bidaliko den HTTP eskaerako goiburuetan parametro gehigarriak zehazt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tResponseHeader(headerName): erantzuneko HTTP goiburutik adierazitako balioa itz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tAllResponseHeaders(): erantzuneko HTTP goiburuko balio guztiak itzu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6T09:55:56Z</dcterms:modified>
  <cp:revision>528</cp:revision>
  <dc:subject/>
  <dc:title>Presentación de PowerPoint</dc:title>
</cp:coreProperties>
</file>